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2B8-8A6E-4C62-A123-A2440431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211-5C5B-41FD-987F-69F78B5B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7AC-295F-473F-AEF1-DFBA9DBA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48B-E501-4E17-9278-C2BC98A6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3DF-0EF7-4E2B-900A-4F3C1F4B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D11-A6F5-4F64-BBC7-8B9D492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D6B-BE48-4DA9-B6A6-1362ED8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996-E2F3-424C-8EB9-71725E3B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D63-732F-4C27-AD2A-63EBCD3B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383-4C0B-4A01-8E2D-8E46486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E65-BDF5-4CBD-A32A-0F93C9AF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312-54D0-4496-8037-66C35AF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Franklin Gothic Book"/>
                <a:ea typeface="メイリオ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2A1-3EBE-4118-91D6-339F7A34F9EB}" type="slidenum">
              <a:rPr b="0" lang="ja-JP" sz="1200" spc="-1" strike="noStrike">
                <a:solidFill>
                  <a:srgbClr val="898989"/>
                </a:solidFill>
                <a:latin typeface="Franklin Gothic Book"/>
                <a:ea typeface="メイリオ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円/楕円 18"/>
          <p:cNvSpPr/>
          <p:nvPr/>
        </p:nvSpPr>
        <p:spPr>
          <a:xfrm>
            <a:off x="571680" y="1285920"/>
            <a:ext cx="3071520" cy="17143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643720" y="1143000"/>
            <a:ext cx="2717640" cy="128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500720" y="1714680"/>
            <a:ext cx="2890800" cy="1519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857920" y="2286000"/>
            <a:ext cx="2827440" cy="1393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45" name="正方形/長方形 6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7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CSP_logo"/>
          <p:cNvPicPr/>
          <p:nvPr/>
        </p:nvPicPr>
        <p:blipFill>
          <a:blip r:embed="rId4"/>
          <a:stretch/>
        </p:blipFill>
        <p:spPr>
          <a:xfrm>
            <a:off x="8143920" y="285840"/>
            <a:ext cx="9018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9"/>
          <p:cNvSpPr/>
          <p:nvPr/>
        </p:nvSpPr>
        <p:spPr>
          <a:xfrm>
            <a:off x="142920" y="3571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f6228"/>
                </a:solidFill>
                <a:latin typeface="Franklin Gothic Book"/>
                <a:ea typeface="メイリオ"/>
              </a:rPr>
              <a:t>新たな印刷物受注のためのセミナーレップ事業　マニュアル概要－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4881240" y="785880"/>
            <a:ext cx="206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セミナープロジェクト　管理シート各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500040" y="4429080"/>
            <a:ext cx="3478320" cy="1849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1" name="テキスト ボックス 12"/>
          <p:cNvSpPr/>
          <p:nvPr/>
        </p:nvSpPr>
        <p:spPr>
          <a:xfrm>
            <a:off x="943200" y="3929040"/>
            <a:ext cx="224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セミナープロジェクト　セールスフロー見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4643280" y="4286160"/>
            <a:ext cx="3110040" cy="1962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" name="テキスト ボックス 14"/>
          <p:cNvSpPr/>
          <p:nvPr/>
        </p:nvSpPr>
        <p:spPr>
          <a:xfrm>
            <a:off x="4663080" y="392904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セミナー集客トーク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7"/>
          <a:stretch/>
        </p:blipFill>
        <p:spPr>
          <a:xfrm>
            <a:off x="6572160" y="4500720"/>
            <a:ext cx="2014560" cy="2011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5" name="テキスト ボックス 17"/>
          <p:cNvSpPr/>
          <p:nvPr/>
        </p:nvSpPr>
        <p:spPr>
          <a:xfrm>
            <a:off x="1448640" y="1857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プロジェクト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集客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143240" y="1357200"/>
            <a:ext cx="2173320" cy="1714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7" name="正方形/長方形 4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5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円/楕円 6"/>
          <p:cNvSpPr/>
          <p:nvPr/>
        </p:nvSpPr>
        <p:spPr>
          <a:xfrm>
            <a:off x="500040" y="1214280"/>
            <a:ext cx="3071880" cy="17146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7"/>
          <p:cNvSpPr/>
          <p:nvPr/>
        </p:nvSpPr>
        <p:spPr>
          <a:xfrm>
            <a:off x="149760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セミナー運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8"/>
          <p:cNvSpPr/>
          <p:nvPr/>
        </p:nvSpPr>
        <p:spPr>
          <a:xfrm>
            <a:off x="4006080" y="866880"/>
            <a:ext cx="8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⑥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司会進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786720" y="1428840"/>
            <a:ext cx="1357200" cy="1643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7715160" y="1160640"/>
            <a:ext cx="1357560" cy="176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4" name="テキスト ボックス 11"/>
          <p:cNvSpPr/>
          <p:nvPr/>
        </p:nvSpPr>
        <p:spPr>
          <a:xfrm>
            <a:off x="6965280" y="866880"/>
            <a:ext cx="4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⑦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・⑧会場配置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285840" y="3786120"/>
            <a:ext cx="1571400" cy="2271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6" name="テキスト ボックス 13"/>
          <p:cNvSpPr/>
          <p:nvPr/>
        </p:nvSpPr>
        <p:spPr>
          <a:xfrm>
            <a:off x="142920" y="350028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⑤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受講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428920" y="3786120"/>
            <a:ext cx="1600200" cy="22860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68" name="テキスト ボックス 15"/>
          <p:cNvSpPr/>
          <p:nvPr/>
        </p:nvSpPr>
        <p:spPr>
          <a:xfrm>
            <a:off x="2418120" y="351000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⑪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来場者配布スケジュ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6"/>
          <a:stretch/>
        </p:blipFill>
        <p:spPr>
          <a:xfrm>
            <a:off x="4572000" y="3786120"/>
            <a:ext cx="1714680" cy="2301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70" name="テキスト ボックス 17"/>
          <p:cNvSpPr/>
          <p:nvPr/>
        </p:nvSpPr>
        <p:spPr>
          <a:xfrm>
            <a:off x="4681800" y="35100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⑫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参加者アンケ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7"/>
          <a:stretch/>
        </p:blipFill>
        <p:spPr>
          <a:xfrm>
            <a:off x="6858000" y="3786120"/>
            <a:ext cx="1428840" cy="20080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8"/>
          <a:stretch/>
        </p:blipFill>
        <p:spPr>
          <a:xfrm>
            <a:off x="7643880" y="4857840"/>
            <a:ext cx="1428840" cy="16891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73" name="テキスト ボックス 20"/>
          <p:cNvSpPr/>
          <p:nvPr/>
        </p:nvSpPr>
        <p:spPr>
          <a:xfrm>
            <a:off x="6865200" y="350028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⑭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次回告知チラ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21"/>
          <p:cNvSpPr/>
          <p:nvPr/>
        </p:nvSpPr>
        <p:spPr>
          <a:xfrm>
            <a:off x="142920" y="3571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f6228"/>
                </a:solidFill>
                <a:latin typeface="Franklin Gothic Book"/>
                <a:ea typeface="メイリオ"/>
              </a:rPr>
              <a:t>新たな印刷物受注のためのセミナーレップ事業　マニュアル概要－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CSP_logo"/>
          <p:cNvPicPr/>
          <p:nvPr/>
        </p:nvPicPr>
        <p:blipFill>
          <a:blip r:embed="rId9"/>
          <a:stretch/>
        </p:blipFill>
        <p:spPr>
          <a:xfrm>
            <a:off x="8143920" y="285840"/>
            <a:ext cx="901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7:09:07Z</dcterms:created>
  <dc:creator>yokota</dc:creator>
  <dc:description/>
  <dc:language>en-US</dc:language>
  <cp:lastModifiedBy>sinobu</cp:lastModifiedBy>
  <dcterms:modified xsi:type="dcterms:W3CDTF">2010-08-31T14:05:05Z</dcterms:modified>
  <cp:revision>6</cp:revision>
  <dc:subject/>
  <dc:title>スライド 1</dc:title>
</cp:coreProperties>
</file>